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ct" ContentType="image/x-pict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9.pct" ContentType="image/x-pict"/>
  <Override PartName="/ppt/media/image5.pct" ContentType="image/x-pict"/>
  <Override PartName="/ppt/media/image7.gif" ContentType="image/gif"/>
  <Override PartName="/ppt/media/image6.jpeg" ContentType="image/jpeg"/>
  <Override PartName="/ppt/media/image8.pct" ContentType="image/x-pict"/>
  <Override PartName="/ppt/media/image2.png" ContentType="image/png"/>
  <Override PartName="/ppt/media/image4.jpeg" ContentType="image/jpeg"/>
  <Override PartName="/ppt/media/image13.pct" ContentType="image/x-pict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Mix &amp; Mingle Slide 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roups will cooperatively decide which two samples to use to respond in the moment; one additive sample, one multiplicative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ossible cho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unter (Sample #4) – multiplicative thinking (page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rielle (Sample #5) – additiv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aleigh (Sample #3) – mathematical vocabulary is behind her conceptual understanding – doesn’t have the form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“Growing Succes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oups of 5 gather at one chart paper (Strengths, Needs, Next Steps for the additive or multiplicative student sam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one marker go from quote-to-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inutes at first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inutes at each of the next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up at original quote - 3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comments from other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key elements with the large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up at original quote - 3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comments from other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key elements with the large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remai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participants to reflect on and record key learnings from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participants to the concept of the “Parking Lo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do our best to honor every conversation, but at times we will need to move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lingering questions, new questions, comments etc. - “park” them in the parking lot - we have set aside time at the end of the Proportional Reasoning breakouts to address as many as we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participants to put one idea on each sticky n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complete this task independ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flect and record their responses to the ques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t is Proportional Reasoning on sticky notes.  Each idea will go on a separate no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 groups of 2 or 4, participants begin to create a concept web from common understandings and ideas and organizing sticky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cuss with participants that we will revisit the concept map throughout our Proportional Reasoning breakout s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lick to next slide to review example of “Concept Ma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participants a moment or two to review concept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to share anything of particular 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e re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K-12 Proportional Reasoning Pages 3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of Multiplic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Participants complete reading and revise concept maps in a new 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construct Stages of Multiplicative Reasoning chart.  Each researcher is highlighted in a different colour.  Participants match one of each colour (three groups of researchers, three colours) together to find connections of stages between three researc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connections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 terms may vary slightly from researcher to researcher - essentially the sequence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l use the terms created by the teacher resear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signs on the wall - as we find student samples that reflect a stage - post it under that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 completed “Stages of Multiplicative Reasoning” - participants will read introductory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student work sample package to each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leftover package on document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eginning of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participants to place each sample somewhere on the stag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complete invite table groups to share their placements and rea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(approximatel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 will appear when next word in sequence is clic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ponding to students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“in the moment”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usually in the classroom when you may be under more pressure to respo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ming can v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ver delay feedback beyond when it would make a difference to studen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ount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orit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ints and questions always relate to major learning go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ien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pecific responses to student work and/or questions - is the student in the frame of mind to receive the feedbac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roup/cla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when most of class misses same concept - teaching opport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CC10-23EF-48F0-8048-1910E5D64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AC11-397E-490A-8E44-DD26C2320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50AD-2584-423D-8A6A-3AE423F07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5254-5F5E-4017-839D-823DCE7B68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3803-7555-4BB2-AE5B-3B7E83D82C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C584-FC82-454F-A3AB-465E8BA8B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429A-6FAA-4E27-A52F-6128B8A60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78E9-157B-4671-983C-E02D385A0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0AC3-4406-4394-B8E9-FD3609520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07F8-3CAE-4EA6-890C-3BA1BF117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EE98-E391-4E71-AEAC-2BAD6BA16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F7A4-0450-44AB-8CE7-E2B31D3BD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EAD3-1C69-4299-9A9F-455B6A451D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3.pct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mazon.ca/Six-Dinner-Sid-Inga-Moore/dp/0671796135" TargetMode="External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jpeg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B245-6D78-4F32-9463-FC04E56BD4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2819520"/>
            <a:ext cx="761976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:</a:t>
            </a: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hat is the Focu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Feedback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Breakou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K - 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In the Moment Feedback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group choose two samples you are interested in responding tw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ultiplicative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dditive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09708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In the Moment Feedback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feedback for the student work sample focusing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762120" cy="699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95680" y="3429000"/>
            <a:ext cx="762120" cy="700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72000" y="4495680"/>
            <a:ext cx="762120" cy="7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ffiti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roups, record your feedback for the sample response you have cho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previously-recorded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signal, finish recording your ideas and move to the next ch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08440" y="3962520"/>
            <a:ext cx="4130640" cy="2752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114300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ding In th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/Debrief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ideas recorded at your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ignificant point(s) will you share with the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708440" y="3962520"/>
            <a:ext cx="4130640" cy="27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 revise your concept 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Journal Reflection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sider the role and/or importanc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Moment Feedbac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are some of its challenges and strength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w is our content knowledge connected to our feedb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0" y="152280"/>
            <a:ext cx="205740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486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1360" y="504720"/>
            <a:ext cx="33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447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s Proportional Reas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thoughts on sticky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dea will go on a separate sticky n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5880" y="386064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partner, begin to organize your notes to create a “Concept M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cept maps are graphical tools for organizing and representing knowledge. They include concepts, usually enclosed in circles or boxes of some type, and relationships between concepts indicated by a connecting line linking two concepts. Words on the line, referred to as linking words or linking phrases, specify the relationship between the two concep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The Theory Underlying Concept Maps and How to Construct and Use Th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Joseph D. Nov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map.ihmc.us/publications/researchpapers/theorycmaps/theoryunderlyingconceptmap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05720" y="7632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Read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12 Proportional Reasoning (pages 3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s of Proportional 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new colour, revise your concept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743200" cy="18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ultiplicative Match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3812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nstruct Stages of Multiplicative Reasoning char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researcher (group)is highlighted in a different colou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ch one of each colour together to find connections between three researc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4343400" cy="301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sample response for Six-Dinner 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might you place it on the Stages of Multiplicative Thinking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447920"/>
            <a:ext cx="4038480" cy="4046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05320" y="5927760"/>
            <a:ext cx="563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d has 6 owners who all don't know about the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 he eats 6 dinners each ni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many dinners would he eat in a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838080" y="2057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viding feedback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 flipH="1">
            <a:off x="6476760" y="304920"/>
            <a:ext cx="1811160" cy="2133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2819520" cy="1877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3435480"/>
            <a:ext cx="1371600" cy="1898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55880" y="1440000"/>
            <a:ext cx="25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omputer Services</cp:lastModifiedBy>
  <dcterms:modified xsi:type="dcterms:W3CDTF">2011-08-14T00:17:28Z</dcterms:modified>
  <cp:revision>98</cp:revision>
  <dc:subject/>
  <dc:title>&lt;Title&gt;</dc:title>
</cp:coreProperties>
</file>